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1CF6-D13C-488E-9113-44ABFB2B5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28DE-4076-4CE4-8F81-ED99EAEAA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7D3D-5465-4DDB-866E-82384D7EB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C178-76C4-4BC1-A783-C4365F37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7ADB5-DA45-4F90-91D5-670FA700E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8C81E-0E5B-4E4E-BEA9-718F5669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35590-8D10-4E99-BD7A-DF159D73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7EF1-59C9-410D-87E7-2513F207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46C6A-EF3A-4D8C-82D1-24B0D34A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9E32-31D7-4EB3-A573-9E27DA3D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31E0-3F0A-46AE-8F40-F736D8AA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AC64-156C-4377-8EF9-A987F1F9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C14A-088A-4D94-909E-CF2609A6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C62B-16DF-4556-87C9-BC5E1431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0288-942E-4F00-B2DB-A63D975A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1159D-489C-4F9E-ADF7-F987141EF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A6C68-5BDF-40BD-B26E-2D3D4E061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C75E8-E66F-4A16-9D59-F374966A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005C7-F2F8-4D80-99F7-8B5B5945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E35FC-9E9E-4A73-82E1-C57B53D80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B75B5-07B1-45F7-9511-7966A51D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A4C11-2A13-4E3A-93D5-CDC8A018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6644-87BF-4CA2-A8C7-9A8A5DC1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8D857-BB99-4E0F-8C64-5F67304D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FE911-9A09-422B-BB83-0A5DFD2B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1FE96-4ED6-471E-B18D-3B24FD07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F1257-F93B-40A4-ABA2-B24F58C78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44B03-FC64-4E84-8AC9-F748B2C7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51565-F93F-4328-A06C-CB99C1900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BA387-19DC-4F0F-81C3-77F5E2B0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1ED77-7EC8-4914-9CEA-CA4BE435C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846AA-E1D4-4575-9C50-02B9B2D0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3BD45-5209-4315-84A6-E704BB92F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5AA-1200-4025-B89F-FFD5BDE0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F707F-2B5E-40DB-BB40-4FBDE0C8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5E615-E131-4396-AC5F-41301D77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78C50-5D2E-4810-8400-AF8E6032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D363F-DAB7-4D63-BE7F-4988CE1B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CB5A1-1978-411B-822D-F5C58D7F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DCBA5-B0EC-4AE9-AE08-B1F426D7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9FB1E-294A-4164-B7CC-8503C84D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11BB1-0E3D-4AE1-8DC8-AF37417D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5D1C7-B458-4FAA-B23D-8771DFDE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4EED2-4609-4373-9145-F19BF818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6154-2A17-4F7E-AE18-601C4AEB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3C81FB-C649-43A8-8EC5-C0AA2195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A2822-D827-49F5-8072-4BF1B7E5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95777-4701-4CEB-9015-A8F8FF24E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7F7B3-D446-412D-8B89-C2CC452C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7AEF2-0623-4046-9074-A7FBDBF9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F421A-90A9-47E5-825C-45826055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46D30-C06C-4C89-A635-B23534FD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E874A-8708-4F3E-919A-0E835CF0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C2597-9204-476D-A318-96795B494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E05E9-728A-4C2D-8E52-9025A3A5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F360-6218-440B-800A-DC92C39B7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06212-9247-44D3-B6EA-CEBE7F38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8830-F85D-4EB4-B274-9858D29B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0CD2-4C34-42FD-88DE-B9D802B0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D90-39A7-45C9-AEFD-35E7C241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CC0A-0D4C-4BA0-8F0C-16D918476C19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7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8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4" name="Straight Connector 9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5" name="Straight Connector 10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6" name="Straight Connector 11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7" name="Straight Connector 12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8" name="Straight Connector 13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49" name="Straight Connector 14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0" name="Straight Connector 15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1" name="Straight Connector 16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2" name="Straight Connector 17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3" name="Straight Connector 18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5" name="Straight Connector 20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6" name="Straight Connector 21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7" name="Straight Connector 22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8" name="Straight Connector 23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59" name="Straight Connector 24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0" name="Straight Connector 25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1" name="Straight Connector 26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2" name="Straight Connector 2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3" name="Straight Connector 2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4" name="Straight Connector 2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5" name="Straight Connector 3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6" name="Straight Connector 3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7" name="Straight Connector 3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8" name="Straight Connector 3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69" name="Straight Connector 3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0" name="Straight Connector 3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1" name="Straight Connector 3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2" name="Straight Connector 3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3" name="Straight Connector 3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4" name="Straight Connector 3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5" name="Straight Connector 4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6" name="Straight Connector 4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7" name="Straight Connector 4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8" name="Straight Connector 4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79" name="Straight Connector 4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0" name="Straight Connector 4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1" name="Straight Connector 4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2" name="Straight Connector 4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3" name="Straight Connector 4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4" name="Straight Connector 4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5" name="Straight Connector 50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6" name="Straight Connector 51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8" name="Straight Connector 53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89" name="Straight Connector 54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0" name="Straight Connector 55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1" name="Straight Connector 56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2" name="Straight Connector 57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3" name="Straight Connector 58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4" name="Straight Connector 59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5" name="Straight Connector 60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6" name="Straight Connector 61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7" name="Straight Connector 62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8" name="Straight Connector 63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99" name="Straight Connector 64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0" name="Straight Connector 65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1" name="Straight Connector 66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2" name="Straight Connector 67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3" name="Straight Connector 68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4" name="Straight Connector 69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5" name="Straight Connector 70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6" name="Straight Connector 71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7" name="Straight Connector 72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8" name="Straight Connector 73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09" name="Straight Connector 74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0" name="Straight Connector 75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1" name="Straight Connector 76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2" name="Straight Connector 77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3" name="Straight Connector 78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4" name="Straight Connector 79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5" name="Straight Connector 80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6" name="Straight Connector 81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7" name="Straight Connector 82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8" name="Straight Connector 83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19" name="Straight Connector 84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0" name="Straight Connector 85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1" name="Straight Connector 86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2" name="Straight Connector 8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3" name="Straight Connector 8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4" name="Straight Connector 89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5" name="Straight Connector 90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26" name="Rectangle 91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pSp>
        <p:nvGrpSpPr>
          <p:cNvPr id="127" name="Group 92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93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29" name="Straight Connector 94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30" name="Straight Connector 95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A9CB-7A10-4A87-98F2-1BEBA00F49BA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8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4" name="Straight Connector 9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5" name="Straight Connector 10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6" name="Straight Connector 11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7" name="Straight Connector 12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8" name="Straight Connector 13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79" name="Straight Connector 14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0" name="Straight Connector 15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1" name="Straight Connector 16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2" name="Straight Connector 17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3" name="Straight Connector 18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4" name="Straight Connector 19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5" name="Straight Connector 20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6" name="Straight Connector 21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7" name="Straight Connector 22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8" name="Straight Connector 23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89" name="Straight Connector 24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0" name="Straight Connector 25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1" name="Straight Connector 26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2" name="Straight Connector 27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3" name="Straight Connector 28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4" name="Straight Connector 29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5" name="Straight Connector 30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6" name="Straight Connector 31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7" name="Straight Connector 32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8" name="Straight Connector 33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199" name="Straight Connector 34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0" name="Straight Connector 35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1" name="Straight Connector 36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2" name="Straight Connector 37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3" name="Straight Connector 38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4" name="Straight Connector 39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5" name="Straight Connector 40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6" name="Straight Connector 41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7" name="Straight Connector 42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8" name="Straight Connector 43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09" name="Straight Connector 44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0" name="Straight Connector 45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1" name="Straight Connector 46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2" name="Straight Connector 47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3" name="Straight Connector 48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4" name="Straight Connector 49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5" name="Straight Connector 50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6" name="Straight Connector 51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7" name="Straight Connector 52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8" name="Straight Connector 53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19" name="Straight Connector 54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0" name="Straight Connector 55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1" name="Straight Connector 56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2" name="Straight Connector 57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3" name="Straight Connector 58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4" name="Straight Connector 59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5" name="Straight Connector 60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6" name="Straight Connector 61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7" name="Straight Connector 62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8" name="Straight Connector 63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29" name="Straight Connector 64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0" name="Straight Connector 65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1" name="Straight Connector 66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2" name="Straight Connector 67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3" name="Straight Connector 68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4" name="Straight Connector 69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5" name="Straight Connector 70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6" name="Straight Connector 71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7" name="Straight Connector 72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8" name="Straight Connector 73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39" name="Straight Connector 74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0" name="Straight Connector 75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1" name="Straight Connector 76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2" name="Straight Connector 77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3" name="Straight Connector 78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4" name="Straight Connector 79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5" name="Straight Connector 80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6" name="Straight Connector 8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7" name="Straight Connector 82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8" name="Straight Connector 83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49" name="Straight Connector 84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0" name="Straight Connector 85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1" name="Straight Connector 86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2" name="Straight Connector 87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3" name="Straight Connector 88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4" name="Straight Connector 89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  <p:sp>
          <p:nvSpPr>
            <p:cNvPr id="255" name="Straight Connector 90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w Cen MT"/>
              </a:endParaRPr>
            </a:p>
          </p:txBody>
        </p:sp>
      </p:grpSp>
      <p:sp>
        <p:nvSpPr>
          <p:cNvPr id="256" name="Rectangle 91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Straight Connector 92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Straight Connector 93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36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E633-1F6E-45CE-86DA-5233461A8281}" type="slidenum">
              <a:rPr b="0" lang="en-US" sz="1200" spc="-1" strike="noStrike">
                <a:solidFill>
                  <a:srgbClr val="1d364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36B18-993D-4B14-A3C1-3827EB97BE34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Straight Connector 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Straight Connector 9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Straight Connector 10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Tw Cen MT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Tw Cen M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fe6d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9687-F8E2-43F5-A741-0FFE4C17D79B}" type="slidenum">
              <a:rPr b="0" lang="en-US" sz="1200" spc="-1" strike="noStrike">
                <a:solidFill>
                  <a:srgbClr val="dfe6d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2840" y="2127240"/>
            <a:ext cx="4608360" cy="183528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Mihalcea Cezar</a:t>
            </a:r>
            <a:endParaRPr b="0" lang="en-US" sz="2200" spc="-1" strike="noStrike">
              <a:solidFill>
                <a:srgbClr val="dfe6d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Un ordinateur est une machine électronique qui fonctionne par la lecture séquentielle d'un ensemble d'instructions qui lui font exécuter des opérations logiques et arithmétiques sur des chiffres binaires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La technique actuelle des ordinateurs date du milieu du XX siècl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2146320" y="3676680"/>
            <a:ext cx="463860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1: Écrand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2: Carte mèr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3: Processeur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4: Parallel ATA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5: Mémoire vive (RAM)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6: Cartes d'extension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7: Alimentation électriqu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8: Lecteur de disque optiqu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9: Disque dur, disque électronique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10: Clavier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11: Souris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397" name="Picture 2" descr=""/>
          <p:cNvPicPr/>
          <p:nvPr/>
        </p:nvPicPr>
        <p:blipFill>
          <a:blip r:embed="rId2"/>
          <a:stretch/>
        </p:blipFill>
        <p:spPr>
          <a:xfrm>
            <a:off x="4913280" y="1616040"/>
            <a:ext cx="38656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6840" y="16002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  </a:t>
            </a: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Une algorithme est une suite finie et non-ambiguë d’opérations ou d'instructions permettant de résoudre un problème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  </a:t>
            </a: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On mesure l'efficacité d'une algorithme notamment par sa durée de calcul, par sa consommation de mémoire RAM, par la précision des résultats obtenus, sa scalabilité etc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2"/>
          <a:stretch/>
        </p:blipFill>
        <p:spPr>
          <a:xfrm>
            <a:off x="4608360" y="2000160"/>
            <a:ext cx="422460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274680" y="274680"/>
            <a:ext cx="8412120" cy="137808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495320" y="175212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  </a:t>
            </a: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L'internet est un système d'interconnexion de machines et constitue un réseau informatique mondial, utilisant un ensemble standardisé de protocoles de transfert de données. 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  </a:t>
            </a:r>
            <a:r>
              <a:rPr b="0" lang="fr-FR" sz="2400" spc="-1" strike="noStrike">
                <a:solidFill>
                  <a:srgbClr val="dfe6d0"/>
                </a:solidFill>
                <a:latin typeface="Tw Cen MT"/>
              </a:rPr>
              <a:t>Il transporte un large spectre d'information et permet l'élaboration d'applications et de services variés comme le courrier électronique, la messagerie instantanée et le World Wide Web.</a:t>
            </a:r>
            <a:endParaRPr b="0" lang="en-US" sz="2400" spc="-1" strike="noStrike">
              <a:solidFill>
                <a:srgbClr val="dfe6d0"/>
              </a:solidFill>
              <a:latin typeface="Tw Cen MT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341280" y="2610000"/>
            <a:ext cx="395604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3" descr=""/>
          <p:cNvPicPr/>
          <p:nvPr/>
        </p:nvPicPr>
        <p:blipFill>
          <a:blip r:embed="rId1"/>
          <a:stretch/>
        </p:blipFill>
        <p:spPr>
          <a:xfrm>
            <a:off x="463680" y="1146240"/>
            <a:ext cx="8296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3T17:50:41Z</dcterms:created>
  <dc:creator>Cezar</dc:creator>
  <dc:description/>
  <dc:language>en-US</dc:language>
  <cp:lastModifiedBy>Cezar</cp:lastModifiedBy>
  <dcterms:modified xsi:type="dcterms:W3CDTF">2012-12-03T20:05:10Z</dcterms:modified>
  <cp:revision>20</cp:revision>
  <dc:subject/>
  <dc:title>L’INFORMATIQUE</dc:title>
</cp:coreProperties>
</file>